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947-F507-47BC-A51E-8A2CC62A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F26-E9CC-4494-A3D0-8E41C725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116-5A19-4CBA-A13E-82D96EF3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E49-4DD8-4E62-87EC-B4839EC4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798-2E2F-4C1A-BEEA-18E7C507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53C-4E25-4E92-8467-B212D38C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24E-5A7E-4F84-81C1-613060F5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DACC-83F2-490B-B0F0-FFF1BA00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38CC-6E75-4DCD-878E-8F22B067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42E1-9FBD-41AF-9390-17958F56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13E-A322-4DBA-BBD6-2E963FF8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10D1-A769-4653-9D99-4DBFAA1B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59BD-8A0F-4A7C-A195-71270B57C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que é o PRONATE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 Nacional de Acesso ao Ensino Técnico e Empr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is seus objetiv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lecionar candidatos para concessão de Bolsa Formação em cursos de formação inicial ou continuada-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ênc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ício Circular n° 12/2011 – DET/S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cei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o Federal do Paraná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ço Nacional de Aprendizagem Industrial do Paraná – SE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ço Nacional de Aprendizagem Comercial- SEN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ponsabilidades da SEED/N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ulgaçao dos cursos de Formação Inicial e Continuada – FIC, para alunos regularmente matrículados no Ensino Médio da rede pública estadual, inclusive Educação de Jovens e Adul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leção dos beneficiários de bolsa formação ao estudant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ção do Progr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r a escola POLO(unidade demandante) que será responsável pelas inscrições,seleção e pré-matrícula  dos beneficiári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 Colégio POLO indicará um supervisor de Demanda que juntamente com uma Comissão Especial, formada por três servidores públicos realizarão o processo seletivo de caráter eliminatório e classificató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issão Especial será formada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 representante dos funcionári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 representante dos professores do Ensino Méd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 representante do conselho Escolar, que será o Presidente da Comis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candidatos inscritos serão selecionados de acordo com os critérios abaix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or nota para aluno da rede pública de ensi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r Renda Per Capi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imento no ensino fundament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or 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uma ficha de avaliação próp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e processo classificatório  se aplicará se ultrapassar o número de va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cumentos para a pré-matrícula e matríc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cha de inscrição carimbada pelo colégio – modelo pro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tocópia do RG E CP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tocópia do comprovante de endereç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tocópia co comprovante de rendimento ou rescis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tocópia do Histórico Escol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claração de estar cursando o Ensino Médio pela instituição de ensino estadu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alunos classificados realizarão a matrícula na instituição demandante do curso e o NRE encaminhará a documentação após a classific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sitos do candidato para fazer a inscri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 Idade mínima de 16 anos completos ou atendendo as especificidades de cada cur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  Residir no município de oferta do cur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 Escolaridade de acordo com a especificidade do cur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 Não estar matriculado em curso técnico em nível médio em estabelecimento de ensino da rede públ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brando vagas serão aceitos alunos dos municípios vizin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cri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íodo de 01 a 11 de novembro de 2011 no horário de funcionamento da esc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ssificação será realizada no período de 3 dias úteis após o encerramento das inscri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cterísticas da escola PO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 Proximidade do centro da c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 Ofertar Educação Profissio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 Responsabilizar-se pelo processo de seleção, da inscrição até a conclus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 Encaminhar o resultado da seleção para o N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 Possuir colaborado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 dominam o sistema SISTE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 Possuir colaboradores efetivos no serviço público estadu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- Envolvimento com o Pro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21:00:10Z</dcterms:created>
  <dc:creator>Micro</dc:creator>
  <dc:description/>
  <dc:language>en-US</dc:language>
  <cp:lastModifiedBy>Micro</cp:lastModifiedBy>
  <dcterms:modified xsi:type="dcterms:W3CDTF">2011-11-03T21:57:16Z</dcterms:modified>
  <cp:revision>2</cp:revision>
  <dc:subject/>
  <dc:title>PRONATEC</dc:title>
</cp:coreProperties>
</file>