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E74-09A7-4E71-9076-09FCEACA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263-C7D6-4A7B-8628-6888BAF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6E2-3359-47CC-ACB7-5A5D3903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039-5947-4B29-B5EF-8ABE582B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549-81AA-41A6-90DF-AA2ED62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744-5BCF-450F-9532-B65962B1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B05-6F5C-40F5-9E2B-1C9A04FD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E9E-EDB9-4ABD-B61D-82427C0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79F-830B-4440-B0C4-231FA5D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F3E-72C0-4520-B3A3-444042E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A2A-9E32-4990-9E46-8960B51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422-9FF3-401D-A7BE-29C16BE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58F-D5CB-423E-830D-1D12951F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que é o PRONATE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Nacional de Acesso ao Ensino Técnico e Empr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eus objeti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r candidatos para concessão de Bolsa Formação em cursos de formação inicial ou continuada-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ício Circular n° 12/2011 – DET/S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cei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Federal do Paraná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Industrial do Paraná – S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Comercial- S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ponsabilidades da SEED/N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ao dos cursos de Formação Inicial e Continuada – FIC, para alunos regularmente matrículados no Ensino Médio da rede pública estadual, inclusive Educação de Jovens e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ção dos beneficiários de bolsa formação ao estuda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ção do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 a escola POLO(unidade demandante) que será responsável pelas inscrições,seleção e pré-matrícula  dos benefici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Colégio POLO indicará um supervisor de Demanda que juntamente com uma Comissão Especial, formada por três servidores públicos realizarão o processo seletivo de caráter eliminatório e classific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são Especial será form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funcion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professores do Ensino Mé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 conselho Escolar, que será o Presidente da Co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andidatos inscritos serão selecionados de acordo com os critério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nota para aluno da rede pública de ensi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r Renda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imento no ensino fundam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uma ficha de avaliação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processo classificatório  se aplicará se ultrapassar o número de va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s para a pré-matrícula e matríc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cha de inscrição carimbada pelo colégio – modelo pro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RG E CP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comprovante de endere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co comprovante de rendimento ou resci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Histórico Escol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de estar cursando o Ensino Médio pela instituição de ensin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lunos classificados realizarão a matrícula na instituição demandante do curso e o NRE encaminhará a documentação após a class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sitos do candidato para fazer a inscri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Idade mínima de 16 anos completos ou atendendo as especificidades de cada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 Residir no município de oferta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Escolaridade de acordo com a especificidade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Não estar matriculado em curso técnico em nível médio em estabelecimento de ensino da rede públ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ando vagas serão aceitos alunos dos municípios vi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c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 de 01 a 11 de novembro de 2011 no horário de funcionamento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ificação será realizada no período de 3 dias úteis após o encerramento das inscr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da escola PO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Proximidade do centro da 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Ofertar Educação Profiss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Responsabilizar-se pelo processo de seleção, da inscrição até a concl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ncaminhar o resultado da seleção para o N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Possuir colaborad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ominam o sistema SIST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Possuir colaboradores efetivos no serviço públic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 Envolvimento com 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10Z</dcterms:created>
  <dc:creator>Micro</dc:creator>
  <dc:description/>
  <dc:language>en-US</dc:language>
  <cp:lastModifiedBy>Micro</cp:lastModifiedBy>
  <dcterms:modified xsi:type="dcterms:W3CDTF">2011-11-03T21:57:16Z</dcterms:modified>
  <cp:revision>2</cp:revision>
  <dc:subject/>
  <dc:title>PRONATEC</dc:title>
</cp:coreProperties>
</file>